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2DE-0811-4E83-818A-9FDE86B6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548-E667-4F19-9B24-7FC85871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A6B-F8D3-4AD7-A42A-49D4AF7C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461-DDDA-43FC-B634-CCC04699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DA1-E5D4-4E96-947D-07796CF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5BC-72FF-4335-8030-9FE1656C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403-0CB0-4341-B831-BDD0D198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A20-5079-4042-A67E-7851B62F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776-7DF1-4FF2-91CC-C901E5D9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F29-6550-4756-925C-A2E08D9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5FE-4EAB-4C0E-908D-E40DF59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15F-C05F-47B2-9402-E506978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EF8B-2C2C-47E4-AA02-54126C5BBD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476280"/>
            <a:ext cx="23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814320" y="2349360"/>
            <a:ext cx="7515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ль занятий физической культуро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острых респираторных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болеван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1692360" y="1989000"/>
          <a:ext cx="5729040" cy="43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72904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WordArt 5"/>
          <p:cNvSpPr txBox="1"/>
          <p:nvPr/>
        </p:nvSpPr>
        <p:spPr>
          <a:xfrm>
            <a:off x="1476360" y="476280"/>
            <a:ext cx="619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ичество учеников болевших острыми 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пираторными заболевания 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процентном соотношении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124000" y="549360"/>
            <a:ext cx="4616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ичество учеников перенесших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ые респираторные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олевания в числовом соотношении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907920" y="1773360"/>
          <a:ext cx="59594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773360"/>
                    <a:ext cx="5959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42920" y="2104920"/>
            <a:ext cx="727416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1763640" y="333360"/>
            <a:ext cx="655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личество учеников не болевшие острыми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спираторными заболеваниями в числовом соотношен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907920" y="2205000"/>
          <a:ext cx="595800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205000"/>
                    <a:ext cx="5958000" cy="4657680"/>
                  </a:xfrm>
                  <a:prstGeom prst="rect">
                    <a:avLst/>
                  </a:prstGeom>
                  <a:ln w="0">
                    <a:solidFill>
                      <a:srgbClr val="ff9900"/>
                    </a:solidFill>
                  </a:ln>
                </p:spPr>
              </p:pic>
            </p:oleObj>
          </a:graphicData>
        </a:graphic>
      </p:graphicFrame>
      <p:sp>
        <p:nvSpPr>
          <p:cNvPr id="67" name="WordArt 5"/>
          <p:cNvSpPr txBox="1"/>
          <p:nvPr/>
        </p:nvSpPr>
        <p:spPr>
          <a:xfrm>
            <a:off x="1285920" y="333360"/>
            <a:ext cx="5734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ичество учеников не болевших 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ыми респираторными 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олеваниями в процентном соотношении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900000" y="1052640"/>
            <a:ext cx="648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дет являться определение роли занят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изической культуро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острых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спираторных заболеваний.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619280" y="765000"/>
            <a:ext cx="504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лью исследования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900000" y="1773360"/>
            <a:ext cx="7559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  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Изучить научно методическую литературу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Дать рекомендации по использованию работ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1835280" y="620640"/>
            <a:ext cx="489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195640" y="836640"/>
            <a:ext cx="410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дачи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826920" y="1989000"/>
            <a:ext cx="770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Определить круг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упражнений способствующих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лучшей профилактике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ых респираторных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болеваний.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757080" y="3716280"/>
            <a:ext cx="76298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.Выявить роль занятий физической культурой 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профилактике 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стрых респираторных заболеваний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 rot="21378600">
            <a:off x="1133640" y="1773000"/>
            <a:ext cx="64306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офилактика острых респираторных заболеваний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 занятиях физической культурой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1258920" y="1341360"/>
            <a:ext cx="7058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90000"/>
                  </a:srgbClr>
                </a:solidFill>
                <a:latin typeface="Arial"/>
              </a:rPr>
              <a:t>Предметом исследования будет являться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90000"/>
                </a:srgbClr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209600" y="1052640"/>
            <a:ext cx="6724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нятия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физической культуре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собствующие профилактике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трых респираторных заболеван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908000" y="765000"/>
            <a:ext cx="6120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бъектом исследования будут являться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-74160" y="848520"/>
            <a:ext cx="929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ЛОЖЕНИЕ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ИЧЕСТВО УЧЕНИКОВ УЧАСТВОВАВШИХ В ПРОВЕДЕНИИ   ПЕДАГОГИЧЕСКОГО ИССЛЕДОВ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985080" cy="46087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0"/>
          <p:cNvSpPr txBox="1"/>
          <p:nvPr/>
        </p:nvSpPr>
        <p:spPr>
          <a:xfrm>
            <a:off x="1042920" y="33336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количество учеников участвовавших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 педагогическом исследован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7:49:54Z</dcterms:created>
  <dc:creator>Администратор</dc:creator>
  <dc:description/>
  <dc:language>en-US</dc:language>
  <cp:lastModifiedBy>Максим</cp:lastModifiedBy>
  <dcterms:modified xsi:type="dcterms:W3CDTF">2010-10-30T18:03:15Z</dcterms:modified>
  <cp:revision>9</cp:revision>
  <dc:subject/>
  <dc:title>Слайд 1</dc:title>
</cp:coreProperties>
</file>